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B39-3CAD-4D41-9C90-8FAF401E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FD1-68AB-47E3-BCDE-B2EE397F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611-7962-43DF-9637-D9C542B5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5A0-159C-4F32-9C29-DC229D03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44A-F3D6-4BDE-B1D1-1AA81E89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E34-151E-4BF8-B9AC-97339F60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FF6-3F59-46BF-B09B-889C9BE6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D85-514F-41AF-AC37-187C8EE5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F36-75CB-4436-B950-DA79B89E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E0F-D172-4074-B8BD-F3075013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FEC-18B2-40B2-A7D1-20E91B7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DF1-420F-4012-AABE-097050B9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CC4F-5889-438F-92B8-4EE141F4E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upload.wikimedia.org/wikipedia/commons/e/e3/RichardHenryLe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589640" cy="6019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674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105600">
            <a:off x="380880" y="3048120"/>
            <a:ext cx="2724120" cy="3809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657600" y="411480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DICK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2290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982000">
            <a:off x="533160" y="3276720"/>
            <a:ext cx="3000240" cy="3286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095880" cy="46245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011400">
            <a:off x="380880" y="3200040"/>
            <a:ext cx="2521080" cy="34290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WARD RUT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944800">
            <a:off x="533520" y="3371760"/>
            <a:ext cx="2744640" cy="3486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21037800">
            <a:off x="457200" y="2971440"/>
            <a:ext cx="2908440" cy="3648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817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781600">
            <a:off x="685440" y="3352320"/>
            <a:ext cx="2462040" cy="3191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800600" cy="4025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0811600">
            <a:off x="653760" y="3568680"/>
            <a:ext cx="2133360" cy="31147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ESAR RO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257800" cy="42879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82" name="" descr="File:RichardHenryLee.jpg">
            <a:hlinkClick r:id="rId2"/>
          </p:cNvPr>
          <p:cNvPicPr/>
          <p:nvPr/>
        </p:nvPicPr>
        <p:blipFill>
          <a:blip r:embed="rId3"/>
          <a:stretch/>
        </p:blipFill>
        <p:spPr>
          <a:xfrm rot="20678400">
            <a:off x="609120" y="3123720"/>
            <a:ext cx="2855880" cy="3581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57600" y="4191120"/>
            <a:ext cx="5486400" cy="206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ENRY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35:20Z</dcterms:created>
  <dc:creator>dschall</dc:creator>
  <dc:description/>
  <dc:language>en-US</dc:language>
  <cp:lastModifiedBy>dschall</cp:lastModifiedBy>
  <dcterms:modified xsi:type="dcterms:W3CDTF">2010-02-01T20:11:04Z</dcterms:modified>
  <cp:revision>6</cp:revision>
  <dc:subject/>
  <dc:title>Slide 1</dc:title>
</cp:coreProperties>
</file>