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3B6-452B-4174-8A32-97795A92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05E-23B5-48D4-BFB7-2367BC7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7B3-C26D-4131-8CAF-C6994E65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C04-3C3C-4892-870B-47C21522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6A6-27F4-493D-B8A3-70684EE4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C0D-1265-4612-B2BF-AA69AC0C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856-E171-4302-8A2A-3850B51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7EE-576C-454A-929B-04B13660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2E2-D828-4CED-BFA3-FE8837A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E38-B796-4C00-B7EA-F133747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1CC-794A-4974-BE8D-890DF31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081-153C-4F81-8E2A-76F69B8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151-E6D4-45FB-935B-4E1E10C9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upload.wikimedia.org/wikipedia/commons/e/e3/RichardHenryLe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589640" cy="6019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674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05600">
            <a:off x="380880" y="3048120"/>
            <a:ext cx="2724120" cy="3809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57600" y="411480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22900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982000">
            <a:off x="533160" y="3276720"/>
            <a:ext cx="3000240" cy="3286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095880" cy="46245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11400">
            <a:off x="380880" y="3200040"/>
            <a:ext cx="2521080" cy="3429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WARD RUT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4800">
            <a:off x="533520" y="3371760"/>
            <a:ext cx="2744640" cy="3486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1037800">
            <a:off x="457200" y="2971440"/>
            <a:ext cx="2908440" cy="3648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1720" cy="4848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781600">
            <a:off x="685440" y="3352320"/>
            <a:ext cx="2462040" cy="3191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800600" cy="40258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0811600">
            <a:off x="653760" y="3568680"/>
            <a:ext cx="2133360" cy="3114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657600" y="4191120"/>
            <a:ext cx="5486400" cy="262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ESAR RO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257800" cy="42879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82" name="" descr="File:RichardHenryLee.jpg">
            <a:hlinkClick r:id="rId2"/>
          </p:cNvPr>
          <p:cNvPicPr/>
          <p:nvPr/>
        </p:nvPicPr>
        <p:blipFill>
          <a:blip r:embed="rId3"/>
          <a:stretch/>
        </p:blipFill>
        <p:spPr>
          <a:xfrm rot="20678400">
            <a:off x="609120" y="3123720"/>
            <a:ext cx="2855880" cy="3581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57600" y="4191120"/>
            <a:ext cx="5486400" cy="2064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ENRY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35:20Z</dcterms:created>
  <dc:creator>dschall</dc:creator>
  <dc:description/>
  <dc:language>en-US</dc:language>
  <cp:lastModifiedBy>dschall</cp:lastModifiedBy>
  <dcterms:modified xsi:type="dcterms:W3CDTF">2010-02-01T20:11:04Z</dcterms:modified>
  <cp:revision>6</cp:revision>
  <dc:subject/>
  <dc:title>Slide 1</dc:title>
</cp:coreProperties>
</file>