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CD8-D73D-4ADA-A2AB-DC330C05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DEC-A919-407E-BA2D-3F9E7575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F6C-FD54-4388-B637-CD81AA16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090-4B88-493D-B452-4F16336E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A9B-633A-4BC0-8E83-4198104F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763-51E4-4270-91F1-E2FE645E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FCE-B227-4871-A83D-F5DB2C28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B3D-807A-4E74-915B-01285729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740-0DFD-4F02-8A7E-00B612E6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923-6938-4AAD-8226-0C22B41A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83E-1A61-4BE4-93E5-585D673E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F31-3EC0-407E-9437-345934D4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CB26-2C47-4486-9948-AC74DA3EE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upload.wikimedia.org/wikipedia/commons/e/e3/RichardHenryLee.jp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589640" cy="6019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6740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21105600">
            <a:off x="380880" y="3048120"/>
            <a:ext cx="2724120" cy="38098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657600" y="411480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DICK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22900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982000">
            <a:off x="533160" y="3276720"/>
            <a:ext cx="3000240" cy="32860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095880" cy="46245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21011400">
            <a:off x="380880" y="3200040"/>
            <a:ext cx="2521080" cy="34290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WARD RUT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771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20944800">
            <a:off x="533520" y="3371760"/>
            <a:ext cx="2744640" cy="34862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771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rot="21037800">
            <a:off x="457200" y="2971440"/>
            <a:ext cx="2908440" cy="36482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3817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781600">
            <a:off x="685440" y="3352320"/>
            <a:ext cx="2462040" cy="3191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800600" cy="40258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20811600">
            <a:off x="653760" y="3568680"/>
            <a:ext cx="2133360" cy="31147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ESAR RO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257800" cy="42879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82" name="" descr="File:RichardHenryLee.jpg">
            <a:hlinkClick r:id="rId2"/>
          </p:cNvPr>
          <p:cNvPicPr/>
          <p:nvPr/>
        </p:nvPicPr>
        <p:blipFill>
          <a:blip r:embed="rId3"/>
          <a:stretch/>
        </p:blipFill>
        <p:spPr>
          <a:xfrm rot="20678400">
            <a:off x="609120" y="3123720"/>
            <a:ext cx="2855880" cy="3581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657600" y="4191120"/>
            <a:ext cx="5486400" cy="20646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HENRY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5:35:20Z</dcterms:created>
  <dc:creator>dschall</dc:creator>
  <dc:description/>
  <dc:language>en-US</dc:language>
  <cp:lastModifiedBy>dschall</cp:lastModifiedBy>
  <dcterms:modified xsi:type="dcterms:W3CDTF">2010-02-01T20:11:04Z</dcterms:modified>
  <cp:revision>6</cp:revision>
  <dc:subject/>
  <dc:title>Slide 1</dc:title>
</cp:coreProperties>
</file>