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0E8-1D45-48B4-BF34-6E879BDF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B03-300B-48CE-AC14-F3AD572E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BD8-D505-4471-8A7E-EBDD1735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FDD-D1FE-4960-BFBC-6936880C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D3C-9BB0-4E24-91F8-BAA552B5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79C-5926-4DD7-969A-6D587710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1B4-B921-43DF-BF83-5830059A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861-D6AF-497E-BA2F-700BCCF3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6D9-0FE5-4D55-96F6-87620124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89E-98A7-4509-99ED-9381F77A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10E-3753-47C4-9E01-87A47BC9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0B3-B431-4795-9896-45F094A5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732B-3A13-4E08-9F32-92EE1D71B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upload.wikimedia.org/wikipedia/commons/e/e3/RichardHenryLee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589640" cy="6019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674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1105600">
            <a:off x="380880" y="3048120"/>
            <a:ext cx="2724120" cy="3809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657600" y="411480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DICK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2290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982000">
            <a:off x="533160" y="3276720"/>
            <a:ext cx="3000240" cy="32860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095880" cy="46245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1011400">
            <a:off x="380880" y="3200040"/>
            <a:ext cx="2521080" cy="34290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WARD RUT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944800">
            <a:off x="533520" y="3371760"/>
            <a:ext cx="2744640" cy="3486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21037800">
            <a:off x="457200" y="2971440"/>
            <a:ext cx="2908440" cy="3648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3817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781600">
            <a:off x="685440" y="3352320"/>
            <a:ext cx="2462040" cy="3191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800600" cy="4025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0811600">
            <a:off x="653760" y="3568680"/>
            <a:ext cx="2133360" cy="31147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ESAR RO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257800" cy="42879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82" name="" descr="File:RichardHenryLee.jpg">
            <a:hlinkClick r:id="rId2"/>
          </p:cNvPr>
          <p:cNvPicPr/>
          <p:nvPr/>
        </p:nvPicPr>
        <p:blipFill>
          <a:blip r:embed="rId3"/>
          <a:stretch/>
        </p:blipFill>
        <p:spPr>
          <a:xfrm rot="20678400">
            <a:off x="609120" y="3123720"/>
            <a:ext cx="2855880" cy="3581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657600" y="4191120"/>
            <a:ext cx="5486400" cy="2064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HENRY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35:20Z</dcterms:created>
  <dc:creator>dschall</dc:creator>
  <dc:description/>
  <dc:language>en-US</dc:language>
  <cp:lastModifiedBy>dschall</cp:lastModifiedBy>
  <dcterms:modified xsi:type="dcterms:W3CDTF">2010-02-01T20:11:04Z</dcterms:modified>
  <cp:revision>6</cp:revision>
  <dc:subject/>
  <dc:title>Slide 1</dc:title>
</cp:coreProperties>
</file>