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15CE-14ED-4E2C-A2FE-36A7C61B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man saw the bomb as a last resort; Eisenhower saw it as a first o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50 billion to $34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00 to 22,2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D49-4109-45B2-B9E3-1D4CB9A9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F53-EC73-400E-8DCE-E2D6E61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1D-86FA-4578-A035-CD3E6F87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96A-480C-4F3B-B9B0-288726DC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8A5-063D-44FC-949C-AD4C1F8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FC4-1E1B-4080-B89F-DB81EC1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98E-41A3-422A-BCBA-0756D691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7AF-6A1C-42D9-9EA6-657A6956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DEC-4C87-4610-BDA9-5180204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D96-B341-4847-8629-159E46F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49B-3F91-4D4C-82DF-839C603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632-1C67-4B56-8471-9C461C5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D12C-1806-4FCD-9606-5032171A3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Courier New"/>
                <a:ea typeface="Courier New"/>
              </a:rPr>
              <a:t>6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plomacy—negotiating alliances, agreements, and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liances—called “pact-o-man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TO, Baghdad Pact (CEN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world_rel_803005AI_2003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5715000" y="1447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86600" y="24382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876920" y="23623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858000" y="26668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7162920" y="2057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666880" y="243828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9480" y="30481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33720" y="28195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362320" y="259092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334120" y="22096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724280" y="2590920"/>
            <a:ext cx="83844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876920" y="1905120"/>
            <a:ext cx="83808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562720" y="99072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010280" y="2971800"/>
            <a:ext cx="23623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ochina (Viet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15200" y="2362320"/>
            <a:ext cx="167652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/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162920" y="1752480"/>
            <a:ext cx="1676160" cy="3988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73360" y="304920"/>
            <a:ext cx="5738760" cy="59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477120" cy="582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ichael_becker"/>
          <p:cNvPicPr/>
          <p:nvPr/>
        </p:nvPicPr>
        <p:blipFill>
          <a:blip r:embed="rId1"/>
          <a:stretch/>
        </p:blipFill>
        <p:spPr>
          <a:xfrm>
            <a:off x="1447920" y="1219320"/>
            <a:ext cx="6229080" cy="46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33720" y="6094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LOOK FOREIG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luesmartcarJPG"/>
          <p:cNvPicPr/>
          <p:nvPr/>
        </p:nvPicPr>
        <p:blipFill>
          <a:blip r:embed="rId1"/>
          <a:stretch/>
        </p:blipFill>
        <p:spPr>
          <a:xfrm>
            <a:off x="7315200" y="4952880"/>
            <a:ext cx="1447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RC%20Tractor%20Trailer"/>
          <p:cNvPicPr/>
          <p:nvPr/>
        </p:nvPicPr>
        <p:blipFill>
          <a:blip r:embed="rId2"/>
          <a:stretch/>
        </p:blipFill>
        <p:spPr>
          <a:xfrm>
            <a:off x="0" y="3124080"/>
            <a:ext cx="7010280" cy="3035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457200" y="106668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inkmanship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art of getting to the verge of war without getting into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838080" y="91440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ssive retalia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 the full utilization of force and weaponry, including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huck-Norris-714565"/>
          <p:cNvPicPr/>
          <p:nvPr/>
        </p:nvPicPr>
        <p:blipFill>
          <a:blip r:embed="rId1"/>
          <a:stretch/>
        </p:blipFill>
        <p:spPr>
          <a:xfrm>
            <a:off x="6105600" y="3076560"/>
            <a:ext cx="303840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dominoes"/>
          <p:cNvPicPr/>
          <p:nvPr/>
        </p:nvPicPr>
        <p:blipFill>
          <a:blip r:embed="rId1"/>
          <a:stretch/>
        </p:blipFill>
        <p:spPr>
          <a:xfrm>
            <a:off x="3048120" y="2581200"/>
            <a:ext cx="38764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838080" y="380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mino Theor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—the belief that if one country falls to Communism, so will others around tha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Middle-East-map"/>
          <p:cNvPicPr/>
          <p:nvPr/>
        </p:nvPicPr>
        <p:blipFill>
          <a:blip r:embed="rId1"/>
          <a:stretch/>
        </p:blipFill>
        <p:spPr>
          <a:xfrm>
            <a:off x="1905120" y="2743200"/>
            <a:ext cx="5217840" cy="3622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09480" y="533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senhower Doctrin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offer military aid (financial or personnel) to 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Middle Eastern n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ttempting to resist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ia-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762120" y="1447920"/>
            <a:ext cx="779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IA: Central Intelligence Agency increasingly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6:50:53Z</dcterms:created>
  <dc:creator>dschall</dc:creator>
  <dc:description/>
  <dc:language>en-US</dc:language>
  <cp:lastModifiedBy>Schall, Dan</cp:lastModifiedBy>
  <dcterms:modified xsi:type="dcterms:W3CDTF">2013-03-14T04:54:21Z</dcterms:modified>
  <cp:revision>24</cp:revision>
  <dc:subject/>
  <dc:title>Slide 1</dc:title>
</cp:coreProperties>
</file>