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9E5-6B0E-4980-8996-4746AC03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man saw the bomb as a last resort; Eisenhower saw it as a first o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50 billion to $34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00 to 22,2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8DD-FCFC-4486-B379-95CF1F39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AAD-65E5-4B0E-AC58-6CFA25B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A4D-BD41-45B9-870A-652C9E9C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C33-9F55-45F3-ACDA-2AA36896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F48-89D8-4D64-9FBF-91F5BC0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85C-B273-4408-84E3-26A67628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537-63B7-4501-9589-6E8EBD5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915-C1A5-436E-82CE-688873C4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9CF-E5F0-4815-B2C3-E05E536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235-B444-4CEF-A588-4A8FEBD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968-46C9-44DD-8353-FD0E37C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21E-231C-4059-9B3B-C05AB81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B39-EA3D-4A1F-83A8-949E58E6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Courier New"/>
                <a:ea typeface="Courier New"/>
              </a:rPr>
              <a:t>6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plomacy—negotiating alliances, agreements, and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liances—called “pact-o-man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TO, Baghdad Pact (CEN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orld_rel_803005AI_2003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5715000" y="144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86600" y="2438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876920" y="23623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858000" y="26668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162920" y="2057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666880" y="243828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9480" y="30481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3372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3623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334120" y="22096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724280" y="259092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876920" y="1905120"/>
            <a:ext cx="83808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562720" y="99072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010280" y="2971800"/>
            <a:ext cx="23623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ochina (Viet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15200" y="23623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/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162920" y="175248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73360" y="304920"/>
            <a:ext cx="5738760" cy="59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477120" cy="582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ichael_becker"/>
          <p:cNvPicPr/>
          <p:nvPr/>
        </p:nvPicPr>
        <p:blipFill>
          <a:blip r:embed="rId1"/>
          <a:stretch/>
        </p:blipFill>
        <p:spPr>
          <a:xfrm>
            <a:off x="1447920" y="1219320"/>
            <a:ext cx="6229080" cy="46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33720" y="6094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LOOK FOREIG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luesmartcarJPG"/>
          <p:cNvPicPr/>
          <p:nvPr/>
        </p:nvPicPr>
        <p:blipFill>
          <a:blip r:embed="rId1"/>
          <a:stretch/>
        </p:blipFill>
        <p:spPr>
          <a:xfrm>
            <a:off x="7315200" y="495288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RC%20Tractor%20Trailer"/>
          <p:cNvPicPr/>
          <p:nvPr/>
        </p:nvPicPr>
        <p:blipFill>
          <a:blip r:embed="rId2"/>
          <a:stretch/>
        </p:blipFill>
        <p:spPr>
          <a:xfrm>
            <a:off x="0" y="3124080"/>
            <a:ext cx="7010280" cy="3035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457200" y="106668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inkmanship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art of getting to the verge of war without getting in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838080" y="91440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ssive retali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full utilization of force and weaponry, including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huck-Norris-714565"/>
          <p:cNvPicPr/>
          <p:nvPr/>
        </p:nvPicPr>
        <p:blipFill>
          <a:blip r:embed="rId1"/>
          <a:stretch/>
        </p:blipFill>
        <p:spPr>
          <a:xfrm>
            <a:off x="6105600" y="3076560"/>
            <a:ext cx="303840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ominoes"/>
          <p:cNvPicPr/>
          <p:nvPr/>
        </p:nvPicPr>
        <p:blipFill>
          <a:blip r:embed="rId1"/>
          <a:stretch/>
        </p:blipFill>
        <p:spPr>
          <a:xfrm>
            <a:off x="3048120" y="2581200"/>
            <a:ext cx="38764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838080" y="380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mino Theor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—the belief that if one country falls to Communism, so will others around tha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09480" y="533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senhower Doctri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offer military aid (financial or personnel) to 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Middle Eastern n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ttempting to resist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ia-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62120" y="1447920"/>
            <a:ext cx="779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A: Central Intelligence Agency increasingly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6:50:53Z</dcterms:created>
  <dc:creator>dschall</dc:creator>
  <dc:description/>
  <dc:language>en-US</dc:language>
  <cp:lastModifiedBy>Schall, Dan</cp:lastModifiedBy>
  <dcterms:modified xsi:type="dcterms:W3CDTF">2013-03-14T04:54:21Z</dcterms:modified>
  <cp:revision>24</cp:revision>
  <dc:subject/>
  <dc:title>Slide 1</dc:title>
</cp:coreProperties>
</file>