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BA0D-8BEA-4E1D-BB9B-38ADAE5F5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uman saw the bomb as a last resort; Eisenhower saw it as a first o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50 billion to $34 bi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200 to 22,2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F06-78A9-4DD4-825D-52B36747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DCC-5399-490F-A53D-0F729F43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B7E-F4CC-47BC-871B-F918531E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EFC-E161-429B-A6D6-DD7E0B65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473-2B13-4652-B035-D5F13835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CC9-0321-44A8-916B-CEDD6F0D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5E7-C5CF-446F-BDB7-375837CE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3E1-CF09-4C5D-966F-61D0672A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88F-EDC4-41CB-B88A-B2C1D440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293-D05A-4F68-8CAA-824B9173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1CF-89C5-4BFB-B5D2-737D2321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0A4-00CD-4F85-895A-5A835745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2D6A-606A-4784-90E3-3314C3696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Courier New"/>
                <a:ea typeface="Courier New"/>
              </a:rPr>
              <a:t>6.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plomacy—negotiating alliances, agreements, and tre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33520" y="76212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lliances—called “pact-o-mania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ATO, Baghdad Pact (CENT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iddle-East-map"/>
          <p:cNvPicPr/>
          <p:nvPr/>
        </p:nvPicPr>
        <p:blipFill>
          <a:blip r:embed="rId1"/>
          <a:stretch/>
        </p:blipFill>
        <p:spPr>
          <a:xfrm>
            <a:off x="1905120" y="2743200"/>
            <a:ext cx="5217840" cy="362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world_rel_803005AI_2003"/>
          <p:cNvPicPr/>
          <p:nvPr/>
        </p:nvPicPr>
        <p:blipFill>
          <a:blip r:embed="rId1"/>
          <a:stretch/>
        </p:blipFill>
        <p:spPr>
          <a:xfrm>
            <a:off x="0" y="635040"/>
            <a:ext cx="9144000" cy="50734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4"/>
          <p:cNvSpPr/>
          <p:nvPr/>
        </p:nvSpPr>
        <p:spPr>
          <a:xfrm>
            <a:off x="5715000" y="14479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7086600" y="243828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876920" y="23623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6858000" y="266688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7162920" y="20574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666880" y="2438280"/>
            <a:ext cx="83844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609480" y="3048120"/>
            <a:ext cx="167652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33720" y="28195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362320" y="25909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5334120" y="220968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4724280" y="2590920"/>
            <a:ext cx="83844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876920" y="1905120"/>
            <a:ext cx="83808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562720" y="990720"/>
            <a:ext cx="167616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viet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7010280" y="2971800"/>
            <a:ext cx="236232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ochina (Vietn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315200" y="2362320"/>
            <a:ext cx="167652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a/Tai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7162920" y="1752480"/>
            <a:ext cx="167616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773360" y="304920"/>
            <a:ext cx="5738760" cy="596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143000" y="380880"/>
            <a:ext cx="6477120" cy="582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michael_becker"/>
          <p:cNvPicPr/>
          <p:nvPr/>
        </p:nvPicPr>
        <p:blipFill>
          <a:blip r:embed="rId1"/>
          <a:stretch/>
        </p:blipFill>
        <p:spPr>
          <a:xfrm>
            <a:off x="1447920" y="1219320"/>
            <a:ext cx="6229080" cy="4671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2133720" y="6094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LOOK FOREIGN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bluesmartcarJPG"/>
          <p:cNvPicPr/>
          <p:nvPr/>
        </p:nvPicPr>
        <p:blipFill>
          <a:blip r:embed="rId1"/>
          <a:stretch/>
        </p:blipFill>
        <p:spPr>
          <a:xfrm>
            <a:off x="7315200" y="4952880"/>
            <a:ext cx="144792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RC%20Tractor%20Trailer"/>
          <p:cNvPicPr/>
          <p:nvPr/>
        </p:nvPicPr>
        <p:blipFill>
          <a:blip r:embed="rId2"/>
          <a:stretch/>
        </p:blipFill>
        <p:spPr>
          <a:xfrm>
            <a:off x="0" y="3124080"/>
            <a:ext cx="7010280" cy="3035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4"/>
          <p:cNvSpPr/>
          <p:nvPr/>
        </p:nvSpPr>
        <p:spPr>
          <a:xfrm>
            <a:off x="457200" y="1066680"/>
            <a:ext cx="820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rinkmanship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 the art of getting to the verge of war without getting into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838080" y="91440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assive retalia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 the full utilization of force and weaponry, including nuclear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Chuck-Norris-714565"/>
          <p:cNvPicPr/>
          <p:nvPr/>
        </p:nvPicPr>
        <p:blipFill>
          <a:blip r:embed="rId1"/>
          <a:stretch/>
        </p:blipFill>
        <p:spPr>
          <a:xfrm>
            <a:off x="6105600" y="3076560"/>
            <a:ext cx="303840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dominoes"/>
          <p:cNvPicPr/>
          <p:nvPr/>
        </p:nvPicPr>
        <p:blipFill>
          <a:blip r:embed="rId1"/>
          <a:stretch/>
        </p:blipFill>
        <p:spPr>
          <a:xfrm>
            <a:off x="3048120" y="2581200"/>
            <a:ext cx="3876480" cy="42768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838080" y="38088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omino Theory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—the belief that if one country falls to Communism, so will others around that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Middle-East-map"/>
          <p:cNvPicPr/>
          <p:nvPr/>
        </p:nvPicPr>
        <p:blipFill>
          <a:blip r:embed="rId1"/>
          <a:stretch/>
        </p:blipFill>
        <p:spPr>
          <a:xfrm>
            <a:off x="1905120" y="2743200"/>
            <a:ext cx="5217840" cy="3622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609480" y="5335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isenhower Doctrin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 offer military aid (financial or personnel) to an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Middle Eastern natio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attempting to resist Commu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Cia-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762120" y="1447920"/>
            <a:ext cx="779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IA: Central Intelligence Agency increasingly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6:50:53Z</dcterms:created>
  <dc:creator>dschall</dc:creator>
  <dc:description/>
  <dc:language>en-US</dc:language>
  <cp:lastModifiedBy>Schall, Dan</cp:lastModifiedBy>
  <dcterms:modified xsi:type="dcterms:W3CDTF">2013-03-14T04:54:21Z</dcterms:modified>
  <cp:revision>24</cp:revision>
  <dc:subject/>
  <dc:title>Slide 1</dc:title>
</cp:coreProperties>
</file>